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9F6F-5A20-45E3-A32A-CFA2442D35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1960" y="37792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E0D3-B7D7-44CF-902E-9659C9E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7900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A15B-49AC-470C-B1E3-5B32231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4440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2684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196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4440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2684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F5F3-3CF3-4DAA-B6B9-020DF63C6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2124-3D44-4982-A6B4-CD278B6C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44D7-53BF-4988-A7FF-494CCD0E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5CEA-C5E0-43E1-83FE-1905C8C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C96B-E051-42C2-BE93-1E393C69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6196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F248-0A1C-4C8D-AF37-F19025B0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0F71-7BEB-43BD-A2CF-D5512984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7900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A9E3-FFE1-4460-BB44-A6A97A91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BD0E-D970-4498-ABD5-1CE92CC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1120" y="5867280"/>
            <a:ext cx="8791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a449"/>
              </a:buClr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9760" y="6324480"/>
            <a:ext cx="15238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99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9966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3240" y="55389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StoneSans"/>
              </a:rPr>
              <a:t>Fol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954160" y="6019920"/>
            <a:ext cx="3754440" cy="707760"/>
            <a:chOff x="2954160" y="6019920"/>
            <a:chExt cx="3754440" cy="707760"/>
          </a:xfrm>
        </p:grpSpPr>
        <p:grpSp>
          <p:nvGrpSpPr>
            <p:cNvPr id="6" name=""/>
            <p:cNvGrpSpPr/>
            <p:nvPr/>
          </p:nvGrpSpPr>
          <p:grpSpPr>
            <a:xfrm>
              <a:off x="2957040" y="6022080"/>
              <a:ext cx="3748320" cy="703080"/>
              <a:chOff x="2957040" y="6022080"/>
              <a:chExt cx="3748320" cy="70308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957040" y="6022080"/>
                <a:ext cx="1951920" cy="703080"/>
                <a:chOff x="2957040" y="6022080"/>
                <a:chExt cx="1951920" cy="70308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2997720" y="6022080"/>
                  <a:ext cx="186984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Segeberger Str. 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23866 Nah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957040" y="6022080"/>
                  <a:ext cx="195192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4908960" y="6022080"/>
                <a:ext cx="1796400" cy="703080"/>
                <a:chOff x="4908960" y="6022080"/>
                <a:chExt cx="1796400" cy="7030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4949640" y="6022080"/>
                  <a:ext cx="17146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Telefon 04535 / 29 07 9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Fax 04535 / 29 07 9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Funk 0173 / 982 40 2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908960" y="6022080"/>
                  <a:ext cx="179640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" name=""/>
            <p:cNvSpPr/>
            <p:nvPr/>
          </p:nvSpPr>
          <p:spPr>
            <a:xfrm>
              <a:off x="2954160" y="6019920"/>
              <a:ext cx="3754440" cy="7077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6753240" y="6324480"/>
            <a:ext cx="98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6600"/>
                </a:solidFill>
                <a:latin typeface="Arial"/>
              </a:rPr>
              <a:t>Präsentation v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753240" y="6172200"/>
            <a:ext cx="6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6600"/>
                </a:solidFill>
                <a:latin typeface="Arial"/>
              </a:rPr>
              <a:t>Folie N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844560" y="6172200"/>
            <a:ext cx="1898640" cy="52560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7086240" y="6171840"/>
            <a:ext cx="493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99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8FE4-F382-4BEE-AAC2-66D6FA33F5B0}" type="slidenum">
              <a:rPr b="0" lang="de-DE" sz="8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reher-unternehmensberatung.de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6600"/>
                </a:solidFill>
                <a:latin typeface="Arial"/>
              </a:rPr>
              <a:t>Allgemeines Vorlesungswesen</a:t>
            </a:r>
            <a:br>
              <a:rPr sz="3600"/>
            </a:b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„Controlling und Reporting 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- praxisorientierte Lösungsansätze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für Liquiditäts- u. Ertragsplanung und das Bankengespräch“</a:t>
            </a:r>
            <a:br>
              <a:rPr sz="2000"/>
            </a:br>
            <a:r>
              <a:rPr b="0" lang="en-US" sz="1700" spc="-1" strike="noStrike">
                <a:solidFill>
                  <a:srgbClr val="996633"/>
                </a:solidFill>
                <a:latin typeface="Arial"/>
              </a:rPr>
              <a:t>Wintersemester 2004/05: 25. Oktober 2004</a:t>
            </a:r>
            <a:endParaRPr b="1" lang="en-US" sz="17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96252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00360" y="2565360"/>
            <a:ext cx="3886200" cy="2519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toneSans"/>
              </a:rPr>
              <a:t>Vortrags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toneSans"/>
              </a:rPr>
              <a:t>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reher-unternehmensberatung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-Mail: FReher@T-Online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7996-86A2-4FD1-B7F7-586E4D32FC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sentliche Inhal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sollten in separaten Tabellen, dargestellt und erläuter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satz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neinsatzplanung (wichtig: Rohertragsquo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kosten (Basis quantitative Personalpla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be- und Marketingkosten (Basis konkrete Aktivitäten/Konzep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italdie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80E5-41E1-461B-A25F-22D33301CE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Umsatzplan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IEHE FOLI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sätzlich wich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zierung nach Geschäftsfel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ücksichtigung von Auftrags- und Akquisitionsb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sonale Effekte ein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wicklung verhalten pl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nzip Hoffnung minimi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kulationsgrundlagen und Prämissen verdeutl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93EF-F896-411D-A540-DD38325AC7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sches Vorgehen bei der Kalk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enkennzahlen nu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.B. Rohertragsquoten, Kostenarten im Verhältnis zum Umsa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schnittswerte einb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herheitsaufschläge berücksi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en be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.B. Steuerberater zur Ermittlung der Abschreib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74ED-0D1D-450C-8DAC-7F2CBB46AE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ispiel für eine mittelfristige Ertragsvorsc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EHE FOL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Jahres-Plan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3CD8-5974-4B4C-90A0-FC5176AE23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Liquidität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undsätzli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Basis dient die Ertrag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Planung berücksichtig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h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lungsströme (Einzahlungen und Auszahlun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Gegensatz zur Ertragsplanung, die typischerweise auf Basis von gebuchten Ein- und Ausgangsrechnungen erstellt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 stellt die prognostizierte Liquidität der Unternehmung im zeitlichen Ablauf 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 kann als Grundlage für die Ermittlung des Finanzbedarfs dien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BD31-21A7-46D3-8933-772F4B4FB5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Liquidität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läuterung zu konkreten Inhal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(SIEHE FOLIE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werden kalkulatorische Monatsanfangs- und –endkontostände ermitte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Einnahmenplanung basiert auf Prämissen zur Debitorenlauf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ann zahlen die Kund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eiches gilt für die Aus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ann müssen wir, was an wen zahl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Darstellung berücksichtigt Inhalte, die bei der Ertragsplanung keine Berücksichtigung finden, insbesond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Umsatz- bzw. Vorsteuerzah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Investitionen und Til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Forderungen und Verbind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9EE5-E110-4BCA-945D-B18544E899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professionelles Controlling umfasst 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u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rolle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unternehmerischen Entwicklu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3DB8-DD11-4135-872A-866313DBA4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nhalte eines Controlling-Informations-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tlaufende Planung und Kontrolle wesentlicher Kennzahlen (Plan/Ist-Vergleiche und Forecast-Pla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(SIEHE FOLIE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tlaufende Liquidität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nnzahlenorientiertes Kurzbericht-R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(SIEHE FOLIE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- bzw. Auftragsbezogene Vor- und Nachkalkul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(SIEHE FOLIE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AB34-3744-4D74-9988-F5D394B0505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rüber hinaus wich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zung/Implementierung betriebswirtschaftlicher Softwarelösungen, dabei rele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ition des Kontenrah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inrichtung Leistungs- u. Kostenarte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istenerstellung (Debitoren, Kreditoren, Artikel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atz qualifizierter Mitarbeiter für Aufgabenbereiche Buchführung/operatives 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B517-5E42-46AC-9CFA-46FCBF28C4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e aktuelle Grund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wierige wirtschaftliche Rahmen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Anzahl an Insolvenzen und Kreditausfä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el II / Unternehmens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aus der Not geborene Existenzgründung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EC69-A5D2-484E-9CC7-8A38142BAD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Controlling und Reporting </a:t>
            </a:r>
            <a:br>
              <a:rPr sz="2500"/>
            </a:b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- praxisorientierte Lösungsansätze -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Ein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Kurzvorstellung Unternehmensberatung Re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Betriebswirtschaftliche Kalkul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rtrags-, u. Liquiditätsplan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Unternehmens-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Das Bankgesprä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. Praxisbeispiel: Internes und externe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ABD9-18A1-4C08-A9C6-9E8E27E92C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nsequenzen aus Sicht der Ba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isch/vorsichtige Grundhal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tragschancen/Finanzielle Situation wird detaillierter beurte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he Anforderungen an Business Plan, Reporting und  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derung: externe Unterstützung / Unternehmensber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549A-3643-4295-80C0-07CE4927D5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sequenzen aus Sicht des (potentiellen) Unterneh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hr gut vorbereitet in die Gespräche g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lagen vorab zur Verfügun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sicheres und –kritisches Auftr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iken aufzeigen, Lösungsansätze und Szenarien bil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ank als Partner ver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es, Vertrauen schaffendes Know-how nutzen, Ihre unternehmerische Zeit ist zu kostbar für Exceltabell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Reporting/Controlling professionell auf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37F1-03AE-4282-8F50-64AED34584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Praxisbeispiel: Internes und externes Report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IEHE FOLIE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467A-D072-4209-BB7E-BA6D68C2A5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in Kurzport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iberuflicher Unternehmensberater seit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um der Betriebswirt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Jahre Beratungstät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isziplinäre Fach- und Branchenkennt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58B7-1567-44B0-9464-E75344682AC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ratungs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s-Cont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wirtschaftliche Betreuung / 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isen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s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last not le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istenzgründungsbera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Business Pläne, Finanzierung, Bankgespräche, Begleit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0DE3-460C-450A-A9F2-3E19D55B2C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ie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telständler und Kleinunternehmen aus unterschiedlichen Branchen, 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u- und Baunebengew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onaldienst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iberuf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d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/Neue 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stige Dienstl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2905-FE19-4576-B55F-74EE8DEF6E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G- und Bürgschaftsgemeinschaft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E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KW N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ürgschaftsbank Schleswig-Hol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skammer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Ba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nehmens- und Steuerber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CD57-4E16-4F6A-8DCA-4A096CBAD4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(siehe Vortrag Herr Bachmann, BTG)</a:t>
            </a: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Umsatz- und Kostenbegründung soll die Ertragsvorschau erläutern/hinterlegen, z.B. dur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nkennza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.B. Umsatz-/Rohertrags-/Personalkostenquo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s Geschäftsjahres (Haupt-/Nebensa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öglichkeit hinterlegte monatliche Kostenkalkulationen zu z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r Auslastung 1./2.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ug zur „Geschäftside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.B. über Öffnungszeiten, Sitzplätze, Standort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2D90-5757-47AE-88D9-3BE33C2979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rundsätzl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glichst realitätsnah plane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ittlung der Ertragschancen der Unterneh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tliche Entwicklung auf Monatsbasis da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chtige Meilensteine darstellen (z.B. Break-Ev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ahlen und Erläuterungen spiegeln Business-Plan-Gesamtkonzept wi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ndliche Graphiken und Tabellen verw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ung von Marktanaly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holung von Experten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ntuell: Alternative Szenarien entwick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9034-E061-4028-A416-ACDB6DC8C6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ispiel für eine monatliche Ertragspla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EHE FOL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tragsplan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6A24-05E5-4591-BA24-6EF1D1D99F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. Oktober 2004</a:t>
            </a: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6:46:25Z</dcterms:created>
  <dc:creator>Bürgschaftsgemeinschaft Hamburg</dc:creator>
  <dc:description/>
  <dc:language>en-US</dc:language>
  <cp:lastModifiedBy> </cp:lastModifiedBy>
  <dcterms:modified xsi:type="dcterms:W3CDTF">2004-10-19T13:51:22Z</dcterms:modified>
  <cp:revision>31</cp:revision>
  <dc:subject/>
  <dc:title>PowerPoint-Präsentation</dc:title>
</cp:coreProperties>
</file>