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DDAE6-150A-43E6-BC6C-A31F75FD5A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61960" y="37792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8774F-CF99-4E42-AE7A-943FEB7F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7900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1960" y="37792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779000" y="37792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F4BB-D58A-434E-B987-040E610F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44400" y="18288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26840" y="18288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61960" y="37792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44400" y="37792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26840" y="37792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11BF9-C551-4D5D-A8BA-812C15497A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AEE81-E2E9-43E6-A862-ACCAFE40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EA6F7-BB3D-4F1E-BEEC-732A9514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000" y="18288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CCFFB-01AE-4134-B0A4-9D9658E2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DB769-88CC-40A0-B3B2-CC224673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6196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BD785-1A33-4E3B-9A8C-C2A19D9F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9000" y="18288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1960" y="37792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BFAD9-5AD3-4349-902A-BADABAFA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00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79000" y="37792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4F95F-6C73-4FA9-A20A-9920F510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7900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1960" y="37792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B7AA9-1147-4DE7-B843-FDB7C4BC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1120" y="5867280"/>
            <a:ext cx="8791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a449"/>
              </a:buClr>
              <a:buFont typeface="Symbol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Stone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tone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tone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9760" y="6324480"/>
            <a:ext cx="15238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9966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9966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3240" y="55389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StoneSans"/>
              </a:rPr>
              <a:t>Fol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954160" y="6019920"/>
            <a:ext cx="3754440" cy="707760"/>
            <a:chOff x="2954160" y="6019920"/>
            <a:chExt cx="3754440" cy="707760"/>
          </a:xfrm>
        </p:grpSpPr>
        <p:grpSp>
          <p:nvGrpSpPr>
            <p:cNvPr id="6" name=""/>
            <p:cNvGrpSpPr/>
            <p:nvPr/>
          </p:nvGrpSpPr>
          <p:grpSpPr>
            <a:xfrm>
              <a:off x="2957040" y="6022080"/>
              <a:ext cx="3748320" cy="703080"/>
              <a:chOff x="2957040" y="6022080"/>
              <a:chExt cx="3748320" cy="70308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957040" y="6022080"/>
                <a:ext cx="1951920" cy="703080"/>
                <a:chOff x="2957040" y="6022080"/>
                <a:chExt cx="1951920" cy="70308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2997720" y="6022080"/>
                  <a:ext cx="186984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6600"/>
                      </a:solidFill>
                      <a:latin typeface="Arial"/>
                      <a:ea typeface="Arial"/>
                    </a:rPr>
                    <a:t>Segeberger Str. 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6600"/>
                      </a:solidFill>
                      <a:latin typeface="Arial"/>
                      <a:ea typeface="Arial"/>
                    </a:rPr>
                    <a:t>23866 Nah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2957040" y="6022080"/>
                  <a:ext cx="1951920" cy="70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"/>
              <p:cNvGrpSpPr/>
              <p:nvPr/>
            </p:nvGrpSpPr>
            <p:grpSpPr>
              <a:xfrm>
                <a:off x="4908960" y="6022080"/>
                <a:ext cx="1796400" cy="703080"/>
                <a:chOff x="4908960" y="6022080"/>
                <a:chExt cx="1796400" cy="7030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4949640" y="6022080"/>
                  <a:ext cx="171468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6600"/>
                      </a:solidFill>
                      <a:latin typeface="Arial"/>
                      <a:ea typeface="Arial"/>
                    </a:rPr>
                    <a:t>Telefon 04535 / 29 07 9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6600"/>
                      </a:solidFill>
                      <a:latin typeface="Arial"/>
                      <a:ea typeface="Arial"/>
                    </a:rPr>
                    <a:t>Fax 04535 / 29 07 9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6600"/>
                      </a:solidFill>
                      <a:latin typeface="Arial"/>
                      <a:ea typeface="Arial"/>
                    </a:rPr>
                    <a:t>Funk 0173 / 982 40 2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4908960" y="6022080"/>
                  <a:ext cx="1796400" cy="70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" name=""/>
            <p:cNvSpPr/>
            <p:nvPr/>
          </p:nvSpPr>
          <p:spPr>
            <a:xfrm>
              <a:off x="2954160" y="6019920"/>
              <a:ext cx="3754440" cy="70776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6753240" y="6324480"/>
            <a:ext cx="98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6600"/>
                </a:solidFill>
                <a:latin typeface="Arial"/>
              </a:rPr>
              <a:t>Präsentation vo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753240" y="6172200"/>
            <a:ext cx="63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6600"/>
                </a:solidFill>
                <a:latin typeface="Arial"/>
              </a:rPr>
              <a:t>Folie N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844560" y="6172200"/>
            <a:ext cx="1898640" cy="525600"/>
          </a:xfrm>
          <a:prstGeom prst="rect">
            <a:avLst/>
          </a:prstGeom>
          <a:ln w="0">
            <a:noFill/>
          </a:ln>
        </p:spPr>
      </p:pic>
      <p:sp>
        <p:nvSpPr>
          <p:cNvPr id="17" name="PlaceHolder 4"/>
          <p:cNvSpPr>
            <a:spLocks noGrp="1"/>
          </p:cNvSpPr>
          <p:nvPr>
            <p:ph type="sldNum" idx="2"/>
          </p:nvPr>
        </p:nvSpPr>
        <p:spPr>
          <a:xfrm>
            <a:off x="7086240" y="6171840"/>
            <a:ext cx="493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99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FC75-78B0-4FCA-9A16-A050833A8EEC}" type="slidenum">
              <a:rPr b="0" lang="de-DE" sz="8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reher-unternehmensberatung.de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996600"/>
                </a:solidFill>
                <a:latin typeface="Arial"/>
              </a:rPr>
              <a:t>Allgemeines Vorlesungswesen</a:t>
            </a:r>
            <a:br>
              <a:rPr sz="3600"/>
            </a:b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„Controlling und Reporting </a:t>
            </a:r>
            <a:br>
              <a:rPr sz="2000"/>
            </a:b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- praxisorientierte Lösungsansätze</a:t>
            </a:r>
            <a:br>
              <a:rPr sz="2000"/>
            </a:b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für Liquiditäts- u. Ertragsplanung und das Bankengespräch“</a:t>
            </a:r>
            <a:br>
              <a:rPr sz="2000"/>
            </a:br>
            <a:r>
              <a:rPr b="0" lang="en-US" sz="1700" spc="-1" strike="noStrike">
                <a:solidFill>
                  <a:srgbClr val="996633"/>
                </a:solidFill>
                <a:latin typeface="Arial"/>
              </a:rPr>
              <a:t>Wintersemester 2005/06: 21. November 2005</a:t>
            </a:r>
            <a:endParaRPr b="1" lang="en-US" sz="17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962520" cy="2895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3886200" cy="2914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00360" y="2565360"/>
            <a:ext cx="3886200" cy="2519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toneSans"/>
              </a:rPr>
              <a:t>Vortragsdown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toneSans"/>
              </a:rPr>
              <a:t>u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reher-unternehmensberatung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-Mail: FReher@T-Online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F4DA2-2464-4D77-8B69-C9A6C1A27E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. November 2005</a:t>
            </a: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sentliche Inhal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 sollten in separaten Tabellen, dargestellt und erläutert 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satz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neinsatzplanung (wichtig: Rohertragsquo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kosten (Basis quantitative Personalpla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be- und Marketingkosten (Basis konkrete Aktivitäten/Konzep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pitaldie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A755D-87CE-4B96-9CE8-919B5CD8B13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. November 2005</a:t>
            </a: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e Umsatzplanu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SIEHE FOLIE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undsätzlich wichti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zierung nach Geschäftsfel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ücksichtigung von Auftrags- und Akquisitionsbe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isonale Effekte einarb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wicklung verhalten pl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inzip Hoffnung minimie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kulationsgrundlagen und Prämissen verdeutli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AD386-830F-49D8-9CBB-E4C8041D542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. November 2005</a:t>
            </a: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isches Vorgehen bei der Kalk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enkennzahlen nu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.B. Rohertragsquoten, Kostenarten im Verhältnis zum Umsat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schnittswerte einb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cherheitsaufschläge berücksich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en bef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.B. Steuerberater zur Ermittlung der Abschreibu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CED6A-DFDE-4181-A972-FE3841B482E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. November 2005</a:t>
            </a:r>
          </a:p>
        </p:txBody>
      </p:sp>
    </p:spTree>
  </p:cSld>
  <p:transition spd="med">
    <p:pull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ispiel für eine mittelfristige Ertragsvorsch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EHE FOLI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Jahres-Plan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94F93-2C50-4FE0-AD3F-D6A44C622DC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. November 2005</a:t>
            </a: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Liquidität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rundsätzli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 Basis dient die Ertrags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Planung berücksichtig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h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hlungsströme (Einzahlungen und Auszahlung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Gegensatz zur Ertragsplanung, die typischerweise auf Basis von gebuchten Ein- und Ausgangsrechnungen erstellt wi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 stellt die prognostizierte Liquidität der Unternehmung im zeitlichen Ablauf 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 kann als Grundlage für die Ermittlung des Finanzbedarfs diene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BA5E2-EE4B-44C8-87F0-17B3A96796A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. November 2005</a:t>
            </a: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Liquidität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rläuterung zu konkreten Inhal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(SIEHE FOLIE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werden kalkulatorische Monatsanfangs- und -endkontostände ermitte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Einnahmenplanung basiert auf Prämissen zur Debitorenlauf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ann zahlen die Kunden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iches gilt für die Ausg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ann müssen wir, was an wen zahlen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Darstellung berücksichtigt Inhalte, die bei der Ertragsplanung keine Berücksichtigung finden, insbesond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Umsatz- bzw. Vorsteuerzahl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nvestitionen und Tilg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orderungen und Verbindlichk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653AD-2D62-4277-88E3-75B9DF4FB18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. November 2005</a:t>
            </a: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Unternehmens-Controlling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 professionelles Controlling umfasst d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u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trolle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u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unternehmerischen Entwicklu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C4F04-63C2-4FD7-97E6-0DCCFC1D7CF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. November 2005</a:t>
            </a: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Unternehmens-Controlling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nhalte eines Controlling-Informations-Sys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tlaufende Planung und Kontrolle wesentlicher Kennzahlen (Plan/Ist-Vergleiche und Forecast-Pla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ff3300"/>
                </a:solidFill>
                <a:latin typeface="Arial"/>
              </a:rPr>
              <a:t>(SIEHE FOLIE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tlaufende Liquiditäts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nnzahlenorientiertes Kurzbericht-R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ff3300"/>
                </a:solidFill>
                <a:latin typeface="Arial"/>
              </a:rPr>
              <a:t>(SIEHE FOLIE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jekt- bzw. Auftragsbezogene Vor- und Nachkalkul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ff3300"/>
                </a:solidFill>
                <a:latin typeface="Arial"/>
              </a:rPr>
              <a:t>(SIEHE FOLIE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4DD44-EA40-49BE-B163-A2872B44855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. November 2005</a:t>
            </a: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Unternehmens-Controlling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rüber hinaus wichti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zung/Implementierung betriebswirtschaftlicher Softwarelösungen, dabei relev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finition des Kontenrah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inrichtung Leistungs- u. Kostenarten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istenerstellung (Debitoren, Kreditoren, Artikel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satz qualifizierter Mitarbeiter für Aufgabenbereiche Buchführung/operatives Contr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0AF12-3832-44B0-A1BB-54A90A2C06D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. November 2005</a:t>
            </a: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Bankgespräch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ie aktuelle Grund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wierige wirtschaftliche Rahmenbeding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he Anzahl an Insolvenzen und Kreditausfä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sel II / Unternehmens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e aus der Not geborene Existenzgründunge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34DC5-3E5D-47CF-861B-0262BA3E31C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. November 2005</a:t>
            </a: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Controlling und Reporting </a:t>
            </a:r>
            <a:br>
              <a:rPr sz="2500"/>
            </a:b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- praxisorientierte Lösungsansätze -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h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in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Kurzvorstellung Unternehmensberatung Re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Betriebswirtschaftliche Kalkul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rtrags-, u. Liquiditätsplan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Unternehmens-Contr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Das Bankgesprä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Praxisbeispiel: Internes und externes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6BE52-6190-494E-BC82-7D1C2F2F887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. November 2005</a:t>
            </a:r>
          </a:p>
        </p:txBody>
      </p:sp>
    </p:spTree>
  </p:cSld>
  <p:transition spd="med">
    <p:pull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Bankgespräch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onsequenzen aus Sicht der Ba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tisch/vorsichtige Grundhal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tragschancen/Finanzielle Situation wird detaillierter beurte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he Anforderungen an Business Plan, Reporting und  Contr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derung: externe Unterstützung / Unternehmensber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BF74C-3A6D-4206-879A-AE4E4866228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. November 2005</a:t>
            </a: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Bankgespräch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onsequenzen aus Sicht des (potentiellen) Unternehm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hr gut vorbereitet in die Gespräche g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lagen vorab zur Verfügung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bstsicheres und –kritisches Auftr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iken aufzeigen, Lösungsansätze und Szenarien bil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ank als Partner verst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es, Vertrauen schaffendes Know-how nutzen, Ihre unternehmerische Zeit ist zu kostbar für Exceltabell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Reporting/Controlling professionell aufse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04F45-1054-48DF-A607-9B9DF0B18DB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. November 2005</a:t>
            </a: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Praxisbeispiel: Internes und externes Reporting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SIEHE FOLIE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49F6E-F53B-4E33-9ABB-D523264FCF0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. November 2005</a:t>
            </a: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Unternehmensberatung Frank Reher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in Kurzportr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 Ja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iberuflicher Unternehmensberater seit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um der Betriebswirtsch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Jahre Beratungstätig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disziplinäre Fach- und Branchenkennt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104EF-A7E4-4845-9111-BCBCFE471A5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. November 2005</a:t>
            </a: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Unternehmensberatung Frank Reher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ratungsinha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nehmens-Contro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triebswirtschaftliche Betreuung / Co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risen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nehmensbewe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 last not lea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istenzgründungsbera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Business Pläne, Finanzierung, Bankgespräche, Begleit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E08EF-60D5-4528-A8F7-91C352819C0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. November 2005</a:t>
            </a: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Unternehmensberatung Frank Reher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e K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telständler und Kleinunternehmen aus unterschiedlichen Branchen, 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ß- und Einzelhan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/Neue Med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zintechn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dienstleis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enieurbü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u- und Baunebengewer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stige Dienstle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0C7EC-DD1A-4C07-861E-C3C3A6705C7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. November 2005</a:t>
            </a: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Unternehmensberatung Frank Reher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e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G- und Bürgschaftsgemeinschaft Ham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E.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KW N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ürgschaftsbank Schleswig-Hol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elskammer Ham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e Ban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nehmens- und Steuerber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E803E-9E85-499C-B37A-1B6B0C57D6B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. November 2005</a:t>
            </a: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(siehe Vortrag Frau Zimmermann, BG Hamburg)</a:t>
            </a: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Umsatz- und Kostenbegründung soll die Ertragsvorschau erläutern/hinterlegen, z.B. dur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chenkennza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z.B. Umsatz-/Rohertrags-/Personalkostenquo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stellung des Geschäftsjahres (Haupt-/Nebensai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Möglichkeit hinterlegte monatliche Kostenkalkulationen zu ze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stellung der Auslastung 1./2.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zug zur „Geschäftside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z.B. über Öffnungszeiten, Sitzplätze, Standort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A0076-DDC9-4301-85F2-39C3E71A9BC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. November 2005</a:t>
            </a: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Grundsätzli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öglichst realitätsnah plane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mittlung der Ertragschancen der Unternehm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tliche Entwicklung auf Monatsbasis dar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chtige Meilensteine darstellen (z.B. Break-Ev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ahlen und Erläuterungen spiegeln Business-Plan-Gesamtkonzept wie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tändliche Graphiken und Tabellen verw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führung von Marktanalys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holung von Experten Know-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ventuell: Alternative Szenarien entwick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92F13-8F28-48F6-A0F7-1CA52E628B9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. November 2005</a:t>
            </a: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ispiel für eine monatliche Ertragspla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EHE FOLI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tragsplan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E8EBE-55A4-4F15-844D-F1ADC355E23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. November 2005</a:t>
            </a: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06:46:25Z</dcterms:created>
  <dc:creator>Bürgschaftsgemeinschaft Hamburg</dc:creator>
  <dc:description/>
  <dc:language>en-US</dc:language>
  <cp:lastModifiedBy> </cp:lastModifiedBy>
  <dcterms:modified xsi:type="dcterms:W3CDTF">2005-11-02T14:48:38Z</dcterms:modified>
  <cp:revision>32</cp:revision>
  <dc:subject/>
  <dc:title>PowerPoint-Präsentation</dc:title>
</cp:coreProperties>
</file>