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A091-F990-449B-AA5A-8D95A07BFD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FD20-B1F9-4275-A381-EE148101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C95F-1387-45B9-A502-402B097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4440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684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196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4440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684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B322-7E1C-4F92-9488-8E6140076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C70A-4477-4378-B7BC-2993CD49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48C6-2AFB-4A1A-A831-A3A89FB2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5B8E-38AD-49BF-991A-E6143E4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525E-B6A3-46BD-9932-D1361972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196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6ED4-B93C-46B2-BA6B-58530FAB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A367-7ACC-4410-80B5-5672F4BB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ACC7-5098-4975-A54C-1FADD37B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96F2-8DCF-48BE-A002-D6D5CB68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1120" y="5867280"/>
            <a:ext cx="8791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a449"/>
              </a:buClr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9760" y="6324480"/>
            <a:ext cx="15238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9966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3240" y="5538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toneSans"/>
              </a:rPr>
              <a:t>Fo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954160" y="6019920"/>
            <a:ext cx="3754440" cy="707760"/>
            <a:chOff x="2954160" y="6019920"/>
            <a:chExt cx="3754440" cy="707760"/>
          </a:xfrm>
        </p:grpSpPr>
        <p:grpSp>
          <p:nvGrpSpPr>
            <p:cNvPr id="6" name=""/>
            <p:cNvGrpSpPr/>
            <p:nvPr/>
          </p:nvGrpSpPr>
          <p:grpSpPr>
            <a:xfrm>
              <a:off x="2957040" y="6022080"/>
              <a:ext cx="3748320" cy="703080"/>
              <a:chOff x="2957040" y="6022080"/>
              <a:chExt cx="3748320" cy="7030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957040" y="6022080"/>
                <a:ext cx="1951920" cy="703080"/>
                <a:chOff x="2957040" y="6022080"/>
                <a:chExt cx="1951920" cy="7030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2997720" y="6022080"/>
                  <a:ext cx="186984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Segeberger Str. 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23866 Nah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957040" y="6022080"/>
                  <a:ext cx="19519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4908960" y="6022080"/>
                <a:ext cx="1796400" cy="703080"/>
                <a:chOff x="4908960" y="6022080"/>
                <a:chExt cx="1796400" cy="7030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949640" y="6022080"/>
                  <a:ext cx="17146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Telefon 04535 / 29 07 9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ax 04535 / 29 07 9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unk 0173 / 982 40 2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908960" y="6022080"/>
                  <a:ext cx="17964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" name=""/>
            <p:cNvSpPr/>
            <p:nvPr/>
          </p:nvSpPr>
          <p:spPr>
            <a:xfrm>
              <a:off x="2954160" y="6019920"/>
              <a:ext cx="3754440" cy="7077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6753240" y="6324480"/>
            <a:ext cx="98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Präsentation v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753240" y="6172200"/>
            <a:ext cx="6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Folie N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44560" y="6172200"/>
            <a:ext cx="1898640" cy="52560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7086240" y="6171840"/>
            <a:ext cx="493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4E9-B867-41AA-82BA-D48382CD5802}" type="slidenum">
              <a:rPr b="0" lang="de-DE" sz="8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reher-unternehmensberatung.de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Allgemeines Vorlesungswesen</a:t>
            </a:r>
            <a:br>
              <a:rPr sz="36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„Controlling und Reporting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- praxisorientierte Lösungsansätze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ür Liquiditäts- u. Ertragsplanung und das Bankengespräch“</a:t>
            </a:r>
            <a:br>
              <a:rPr sz="2000"/>
            </a:br>
            <a:r>
              <a:rPr b="0" lang="en-US" sz="1700" spc="-1" strike="noStrike">
                <a:solidFill>
                  <a:srgbClr val="996633"/>
                </a:solidFill>
                <a:latin typeface="Arial"/>
              </a:rPr>
              <a:t>Wintersemester 2006/07: 13. November 2006</a:t>
            </a:r>
            <a:endParaRPr b="1" lang="en-US" sz="17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96252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0360" y="2565360"/>
            <a:ext cx="3886200" cy="2519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Vortrags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reher-unternehmensberatung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-Mail: FReher@T-Online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E06C-18BC-44A2-B4AC-C878F65692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sentliche Inhal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sollten in separaten Tabellen, dargestellt und erläut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satz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neinsatzplanung (wichtig: Rohertrags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kosten (Basis quantitative Personal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be- und Marketingkosten (Basis konkrete Aktivitäten/Konzep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italdi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9BB5-334F-4A42-9D11-15B98F9814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Umsatzplan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sätzlich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zierung nach Geschäftsfel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ücksichtigung von Auftrags- und Akquisitionsb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sonale Effekte ein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 verhalten pl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nzip Hoffnung minimi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kulationsgrundlagen und Prämissen verdeut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FBC9-C926-428C-8024-89B4F3A943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sches Vorgehen bei der Kalk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nkennzahlen n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Rohertragsquoten, Kostenarten im Verhältnis zum Umsa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schnittswerte ein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herheitsaufschläge berücksi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en be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Steuerberater zur Ermittlung der Abschreib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6E6E-666A-4646-B79C-4937E85783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ittelfristige Ertragsvors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Jahres-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0231-A139-4865-834E-896FAD2129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Basis dient die Ertrag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lanung berücksichtig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h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lungsströme (Einzahlungen und Auszahlun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Gegensatz zur Ertragsplanung, die typischerweise auf Basis von gebuchten Ein- und Ausgangsrechnungen erstellt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stellt die prognostizierte Liquidität der Unternehmung im zeitlichen Ablauf 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kann als Grundlage für die Ermittlung des Finanzbedarfs dien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384B-5FCE-4D38-A96F-1903D561DC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läuterung zu konkreten Inhal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SIEHE FOLIE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werden kalkulatorische Monatsanfangs- und -endkontostände ermitte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Einnahmenplanung basiert auf Prämissen zur Debitorenlauf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nn zahlen die Kund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es gilt für die Aus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nn müssen wir, was an wen zahl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Darstellung berücksichtigt Inhalte, die bei der Ertragsplanung keine Berücksichtigung finden, insbesond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msatz- bzw. Vorsteuerza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vestitionen und Til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orderungen und Verbind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98B0-DA22-4CD6-A9C5-2D31320EEB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professionelles Controlling umfasst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olle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unternehmerischen Entwicklu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1270-329F-487E-A11D-A4EEC61AA9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halte eines Controlling-Informations-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laufende Planung und Kontrolle wesentlicher Kennzahlen (Plan/Ist-Vergleiche und Forecast-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IEHE FOLIE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laufende Liquiditä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nzahlenorientiertes Kurzbericht-R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IEHE FOLI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- bzw. Auftragsbezogene Vor- und Nachkalkul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IEHE FOLIE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C5EF-5083-4A46-8B18-E94646D7A7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über hinaus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zung/Implementierung betriebswirtschaftlicher Softwarelösungen, dabei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ition des Kontenrah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inrichtung Leistungs- u. Kostenarte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stenerstellung (Debitoren, Kreditoren, Artikel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atz qualifizierter Mitarbeiter für Aufgabenbereiche Buchführung/operatives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DB56-9F95-4E3B-9EE7-AD3418E1DB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e Grund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sla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wierige wirtschaftliche Rahmenbedin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nzahl an Insolvenzen und Kreditaus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 / Unternehmens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le aus der Not geborene Existenzgrü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tuell (mit steigender Tenden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tschaftliches Klima verbessert (leichter Aufschw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inigungsprozesse“ voll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tbewerbsdruck unter Banken steig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4AD8-2957-43BF-BFA6-C89656C6E6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ontrolling und Reporting </a:t>
            </a:r>
            <a:br>
              <a:rPr sz="25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- praxisorientierte Lösungsansätze -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in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urzvorstellung Unternehmensberatung Re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etriebswirtschaftliche Kalkul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rtrags-, u. Liquiditätspla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Unternehmens-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as Bankgesprä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axisbeispiel: Internes und externe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4460-C956-4AC3-9206-B645144D4A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r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ch wie v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sch/vorsichtige Grundhaltung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anzierungsinteresse erhö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tragschancen/Finanzielle Situation wird detaillierter beurte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nforderungen an Business Plan, Reporting und  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: externe Unterstützung / Unternehmensber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252A-2A9D-4D23-8D22-830313B629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s (potentiellen) Unterneh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r gut vorbereitet in die Gespräche 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lagen vorab zur Verfügun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sicheres und –kritisches Auftr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iken aufzeigen, Lösungsansätze und Szenarien bil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ank als Partner ver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es, Vertrauen schaffendes Know-how nutzen, Ihre unternehmerische Zeit ist zu kostbar für Exceltabel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Reporting/Controlling professionell auf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B9A5-9321-4700-815C-4CDE3DF19F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Praxisbeispiel: Internes und externes Report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6807-ACC0-45C8-8202-EB8AD6A990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n Kurzport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beruflicher Unternehmensberater seit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um der Betriebs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ahre Beratungstät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isziplinäre Fach- und Branchenkennt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C530-722C-439A-BBF5-9FF2216D64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ratungs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-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wirtschaftliche Betreuung /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isen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last not le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enzgründungsbera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Business Pläne, Finanzierung, Bankgespräche, Begleit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e u.a. BG-Start!, E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63C3-D5A6-47A9-9852-67A2D1FDDA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e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ständler und Kleinunternehmen aus unterschiedlichen Branchen, 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- und Einzelha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/Neue 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zintech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dienst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eurbü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u- und Baunebengew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stige Dienstl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7D6F-5958-4804-82E5-A1F504700F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G- und Bürgschaftsgemeinschaft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E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KW N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ürgschaftsbank Schleswig-Hol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skammer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nehmens- und Steuerber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40E7-AFA7-44AD-BE32-657E1048F9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(siehe Vortrag Frau Zimmermann, BG Hamburg)</a:t>
            </a: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Umsatz- und Kostenbegründung soll die Ertragsvorschau erläutern/hinterlegen, z.B. du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nkenn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Umsatz-/Rohertrags-/Personalkosten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s Geschäftsjahres (Haupt-/Nebensa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öglichkeit hinterlegte monatliche Kostenkalkulationen zu 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r Auslastung 1./2.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ug zur „Geschäftside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über Öffnungszeiten, Sitzplätze, Standor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A020-641B-4332-BAE8-53EC6695A1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realitätsnah plane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lung der Ertragschancen der Unterneh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tliche Entwicklung auf Monatsbasis da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e Meilensteine darstellen (z.B. Break-E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hlen und Erläuterungen spiegeln Business-Plan-Gesamtkonzept wi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ndliche Graphiken und Tabellen verw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ung von Marktanaly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holung von Experten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uell: Alternative Szenarien entwick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C156-12A1-41E2-9D63-4FCB655D28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onatliche Ertrag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trags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1C25-CD20-4818-B43C-BC19DA3B09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November 2006</a:t>
            </a: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46:25Z</dcterms:created>
  <dc:creator>Bürgschaftsgemeinschaft Hamburg</dc:creator>
  <dc:description/>
  <dc:language>en-US</dc:language>
  <cp:lastModifiedBy> </cp:lastModifiedBy>
  <dcterms:modified xsi:type="dcterms:W3CDTF">2006-11-07T10:23:18Z</dcterms:modified>
  <cp:revision>34</cp:revision>
  <dc:subject/>
  <dc:title>PowerPoint-Präsentation</dc:title>
</cp:coreProperties>
</file>