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544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CB5EB5-7D23-4286-AF0F-29FEABDEE66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6196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561960" y="182880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61960" y="37792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7ED8ED-E294-4B93-8A5D-A8A68E5FC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6196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61960" y="18288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779000" y="18288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61960" y="37792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779000" y="37792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FBD5D1-B7C6-4C13-A1B7-2498A1687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6196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61960" y="18288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344400" y="18288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26840" y="18288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561960" y="37792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344400" y="37792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26840" y="37792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451B7A-CC9C-4683-B41B-E5E7F485A0D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6196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561960" y="18288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5B047A-E90D-4226-85BA-C2CDD2ABF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6196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1960" y="18288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7B638B-1AF5-4481-BF32-8AFF6711F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6196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61960" y="18288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79000" y="18288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D61A25-6135-4FD4-A70C-B736EC219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6196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7132EE-33DC-477E-A761-A85479B83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61960" y="304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F2B0C6-FFA4-4089-8F88-C454769B2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6196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61960" y="18288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79000" y="18288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61960" y="37792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E0201B-2256-4A24-A75C-22E1834EE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6196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1960" y="18288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79000" y="18288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779000" y="37792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0AE128-AB7B-47F2-8B63-B515BE4E9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6196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61960" y="18288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779000" y="18288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1960" y="37792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893DBB-15ED-419F-97C8-9EB36428C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41120" y="5867280"/>
            <a:ext cx="87919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6196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1" lang="en-US" sz="25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61960" y="18288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00"/>
              </a:buClr>
              <a:buSzPct val="8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66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6600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a449"/>
              </a:buClr>
              <a:buFont typeface="Symbol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Stone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tone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tone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619760" y="6324480"/>
            <a:ext cx="152388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9966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996600"/>
                </a:solidFill>
                <a:latin typeface="Arial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33240" y="5538960"/>
            <a:ext cx="609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StoneSans"/>
              </a:rPr>
              <a:t>Folie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954160" y="6019920"/>
            <a:ext cx="3754440" cy="707760"/>
            <a:chOff x="2954160" y="6019920"/>
            <a:chExt cx="3754440" cy="707760"/>
          </a:xfrm>
        </p:grpSpPr>
        <p:grpSp>
          <p:nvGrpSpPr>
            <p:cNvPr id="6" name=""/>
            <p:cNvGrpSpPr/>
            <p:nvPr/>
          </p:nvGrpSpPr>
          <p:grpSpPr>
            <a:xfrm>
              <a:off x="2957040" y="6022080"/>
              <a:ext cx="3748320" cy="703080"/>
              <a:chOff x="2957040" y="6022080"/>
              <a:chExt cx="3748320" cy="703080"/>
            </a:xfrm>
          </p:grpSpPr>
          <p:grpSp>
            <p:nvGrpSpPr>
              <p:cNvPr id="7" name=""/>
              <p:cNvGrpSpPr/>
              <p:nvPr/>
            </p:nvGrpSpPr>
            <p:grpSpPr>
              <a:xfrm>
                <a:off x="2957040" y="6022080"/>
                <a:ext cx="1951920" cy="703080"/>
                <a:chOff x="2957040" y="6022080"/>
                <a:chExt cx="1951920" cy="703080"/>
              </a:xfrm>
            </p:grpSpPr>
            <p:sp>
              <p:nvSpPr>
                <p:cNvPr id="8" name=""/>
                <p:cNvSpPr/>
                <p:nvPr/>
              </p:nvSpPr>
              <p:spPr>
                <a:xfrm>
                  <a:off x="2997720" y="6022080"/>
                  <a:ext cx="1869840" cy="703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r" pos="44928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r" pos="44928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r" pos="44928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996600"/>
                      </a:solidFill>
                      <a:latin typeface="Arial"/>
                      <a:ea typeface="Arial"/>
                    </a:rPr>
                    <a:t>Segeberger Str. 1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r" pos="44928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996600"/>
                      </a:solidFill>
                      <a:latin typeface="Arial"/>
                      <a:ea typeface="Arial"/>
                    </a:rPr>
                    <a:t>23866 Nahe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2957040" y="6022080"/>
                  <a:ext cx="1951920" cy="703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" name=""/>
              <p:cNvGrpSpPr/>
              <p:nvPr/>
            </p:nvGrpSpPr>
            <p:grpSpPr>
              <a:xfrm>
                <a:off x="4908960" y="6022080"/>
                <a:ext cx="1796400" cy="703080"/>
                <a:chOff x="4908960" y="6022080"/>
                <a:chExt cx="1796400" cy="703080"/>
              </a:xfrm>
            </p:grpSpPr>
            <p:sp>
              <p:nvSpPr>
                <p:cNvPr id="11" name=""/>
                <p:cNvSpPr/>
                <p:nvPr/>
              </p:nvSpPr>
              <p:spPr>
                <a:xfrm>
                  <a:off x="4949640" y="6022080"/>
                  <a:ext cx="1714680" cy="703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r" pos="44928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r" pos="44928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996600"/>
                      </a:solidFill>
                      <a:latin typeface="Arial"/>
                      <a:ea typeface="Arial"/>
                    </a:rPr>
                    <a:t>Telefon 04535 / 29 07 96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r" pos="44928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996600"/>
                      </a:solidFill>
                      <a:latin typeface="Arial"/>
                      <a:ea typeface="Arial"/>
                    </a:rPr>
                    <a:t>Fax 04535 / 29 07 97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r" pos="44928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996600"/>
                      </a:solidFill>
                      <a:latin typeface="Arial"/>
                      <a:ea typeface="Arial"/>
                    </a:rPr>
                    <a:t>Funk 0173 / 982 40 28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4908960" y="6022080"/>
                  <a:ext cx="1796400" cy="703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3" name=""/>
            <p:cNvSpPr/>
            <p:nvPr/>
          </p:nvSpPr>
          <p:spPr>
            <a:xfrm>
              <a:off x="2954160" y="6019920"/>
              <a:ext cx="3754440" cy="707760"/>
            </a:xfrm>
            <a:prstGeom prst="rect">
              <a:avLst/>
            </a:prstGeom>
            <a:noFill/>
            <a:ln w="648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" name=""/>
          <p:cNvSpPr/>
          <p:nvPr/>
        </p:nvSpPr>
        <p:spPr>
          <a:xfrm>
            <a:off x="6753240" y="6324480"/>
            <a:ext cx="984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96600"/>
                </a:solidFill>
                <a:latin typeface="Arial"/>
              </a:rPr>
              <a:t>Präsentation vom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>
            <a:off x="6753240" y="6172200"/>
            <a:ext cx="638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96600"/>
                </a:solidFill>
                <a:latin typeface="Arial"/>
              </a:rPr>
              <a:t>Folie Nr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" name="" descr=""/>
          <p:cNvPicPr/>
          <p:nvPr/>
        </p:nvPicPr>
        <p:blipFill>
          <a:blip r:embed="rId2">
            <a:lum contrast="42000"/>
          </a:blip>
          <a:stretch/>
        </p:blipFill>
        <p:spPr>
          <a:xfrm>
            <a:off x="844560" y="6172200"/>
            <a:ext cx="1898640" cy="525600"/>
          </a:xfrm>
          <a:prstGeom prst="rect">
            <a:avLst/>
          </a:prstGeom>
          <a:ln w="0">
            <a:noFill/>
          </a:ln>
        </p:spPr>
      </p:pic>
      <p:sp>
        <p:nvSpPr>
          <p:cNvPr id="17" name="PlaceHolder 4"/>
          <p:cNvSpPr>
            <a:spLocks noGrp="1"/>
          </p:cNvSpPr>
          <p:nvPr>
            <p:ph type="sldNum" idx="2"/>
          </p:nvPr>
        </p:nvSpPr>
        <p:spPr>
          <a:xfrm>
            <a:off x="7086240" y="6171840"/>
            <a:ext cx="493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9966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42225-75D4-4480-A496-AD690D6B4D44}" type="slidenum">
              <a:rPr b="0" lang="de-DE" sz="800" spc="-1" strike="noStrike">
                <a:solidFill>
                  <a:srgbClr val="9966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hyperlink" Target="http://www.reher-unternehmensberatung.de/" TargetMode="External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539640" y="2708280"/>
            <a:ext cx="1830600" cy="288144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6196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996633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996600"/>
                </a:solidFill>
                <a:latin typeface="Arial"/>
              </a:rPr>
              <a:t>Allgemeines Vorlesungswesen</a:t>
            </a:r>
            <a:br>
              <a:rPr sz="3600"/>
            </a:br>
            <a:r>
              <a:rPr b="1" lang="en-US" sz="2500" spc="-1" strike="noStrike">
                <a:solidFill>
                  <a:srgbClr val="9966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996633"/>
                </a:solidFill>
                <a:latin typeface="Arial"/>
              </a:rPr>
              <a:t>„Controlling und Reporting </a:t>
            </a:r>
            <a:br>
              <a:rPr sz="2000"/>
            </a:br>
            <a:r>
              <a:rPr b="1" lang="en-US" sz="2000" spc="-1" strike="noStrike">
                <a:solidFill>
                  <a:srgbClr val="996633"/>
                </a:solidFill>
                <a:latin typeface="Arial"/>
              </a:rPr>
              <a:t>- praxisorientierte Lösungsansätze</a:t>
            </a:r>
            <a:br>
              <a:rPr sz="2000"/>
            </a:br>
            <a:r>
              <a:rPr b="1" lang="en-US" sz="2000" spc="-1" strike="noStrike">
                <a:solidFill>
                  <a:srgbClr val="996633"/>
                </a:solidFill>
                <a:latin typeface="Arial"/>
              </a:rPr>
              <a:t>für Liquiditäts- u. Ertragsplanung und das Bankengespräch“</a:t>
            </a:r>
            <a:br>
              <a:rPr sz="2000"/>
            </a:br>
            <a:r>
              <a:rPr b="0" lang="en-US" sz="1700" spc="-1" strike="noStrike">
                <a:solidFill>
                  <a:srgbClr val="996633"/>
                </a:solidFill>
                <a:latin typeface="Arial"/>
              </a:rPr>
              <a:t>Wintersemester 2007/08: 19. November 2007</a:t>
            </a:r>
            <a:endParaRPr b="1" lang="en-US" sz="1700" spc="-1" strike="noStrike">
              <a:solidFill>
                <a:srgbClr val="996633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4800600" y="2666880"/>
            <a:ext cx="3962520" cy="28958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268360" y="2565360"/>
            <a:ext cx="3886200" cy="251928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StoneSans"/>
              </a:rPr>
              <a:t>Vortragsdownlo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StoneSans"/>
              </a:rPr>
              <a:t>un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cccff"/>
                </a:solidFill>
                <a:uFillTx/>
                <a:latin typeface="Tahoma"/>
                <a:hlinkClick r:id="rId3"/>
              </a:rPr>
              <a:t>www.reher-unternehmensberatung.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E-Mail: FReher@T-Online.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338503-98B6-4505-8C7E-A003EEBA82FD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9. November 2007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6196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996633"/>
                </a:solidFill>
                <a:latin typeface="Arial"/>
              </a:rPr>
              <a:t>Betriebswirtschaftliche Kalkulationen</a:t>
            </a:r>
            <a:br>
              <a:rPr sz="2100"/>
            </a:br>
            <a:r>
              <a:rPr b="1" lang="en-US" sz="2100" spc="-1" strike="noStrike">
                <a:solidFill>
                  <a:srgbClr val="996633"/>
                </a:solidFill>
                <a:latin typeface="Arial"/>
              </a:rPr>
              <a:t>- Die Ertragsplanung als Bestandteil des Business-Plans –</a:t>
            </a:r>
            <a:br>
              <a:rPr sz="2100"/>
            </a:br>
            <a:endParaRPr b="1" lang="en-US" sz="21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61960" y="18288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Wesentliche Inhal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ese sollten in separaten Tabellen, dargestellt und erläutert werd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00"/>
              </a:buClr>
              <a:buSzPct val="8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msatzplan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00"/>
              </a:buClr>
              <a:buSzPct val="8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reneinsatzplanung (wichtig: Rohertragsquot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00"/>
              </a:buClr>
              <a:buSzPct val="8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sonalkosten (Basis quantitative Personalplanu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00"/>
              </a:buClr>
              <a:buSzPct val="8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rbe- und Marketingkosten (Basis konkrete Aktivitäten/Konzept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00"/>
              </a:buClr>
              <a:buSzPct val="8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apitaldien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091B49-02C9-40A1-BC51-ED9A68AAF404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9. November 2007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6196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996633"/>
                </a:solidFill>
                <a:latin typeface="Arial"/>
              </a:rPr>
              <a:t>Betriebswirtschaftliche Kalkulationen</a:t>
            </a:r>
            <a:br>
              <a:rPr sz="2100"/>
            </a:br>
            <a:r>
              <a:rPr b="1" lang="en-US" sz="2100" spc="-1" strike="noStrike">
                <a:solidFill>
                  <a:srgbClr val="996633"/>
                </a:solidFill>
                <a:latin typeface="Arial"/>
              </a:rPr>
              <a:t>- Die Ertragsplanung als Bestandteil des Business-Plans –</a:t>
            </a:r>
            <a:br>
              <a:rPr sz="2100"/>
            </a:br>
            <a:endParaRPr b="1" lang="en-US" sz="21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61960" y="18288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ie Umsatzplanu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(SIEHE FOLIE 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undsätzlich wichti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00"/>
              </a:buClr>
              <a:buSzPct val="8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zierung nach Geschäftsfeld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00"/>
              </a:buClr>
              <a:buSzPct val="8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rücksichtigung von Auftrags- und Akquisitionsbest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00"/>
              </a:buClr>
              <a:buSzPct val="8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isonale Effekte einarbei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00"/>
              </a:buClr>
              <a:buSzPct val="8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wicklung verhalten pla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Prinzip Hoffnung minimier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00"/>
              </a:buClr>
              <a:buSzPct val="8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lkulationsgrundlagen und Prämissen verdeutlich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8306E3-C24B-4441-8901-80D04BC809B6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9. November 2007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6196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996633"/>
                </a:solidFill>
                <a:latin typeface="Arial"/>
              </a:rPr>
              <a:t>Betriebswirtschaftliche Kalkulationen</a:t>
            </a:r>
            <a:br>
              <a:rPr sz="2100"/>
            </a:br>
            <a:r>
              <a:rPr b="1" lang="en-US" sz="2100" spc="-1" strike="noStrike">
                <a:solidFill>
                  <a:srgbClr val="996633"/>
                </a:solidFill>
                <a:latin typeface="Arial"/>
              </a:rPr>
              <a:t>- Die Ertragsplanung als Bestandteil des Business-Plans –</a:t>
            </a:r>
            <a:br>
              <a:rPr sz="2100"/>
            </a:br>
            <a:endParaRPr b="1" lang="en-US" sz="21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1960" y="18288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ypisches Vorgehen bei der Kalkul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00"/>
              </a:buClr>
              <a:buSzPct val="8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anchenkennzahlen nutz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z.B. Rohertragsquoten, Kostenarten im Verhältnis zum Umsatz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00"/>
              </a:buClr>
              <a:buSzPct val="8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rchschnittswerte einbrin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00"/>
              </a:buClr>
              <a:buSzPct val="8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cherheitsaufschläge berücksichti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00"/>
              </a:buClr>
              <a:buSzPct val="8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rten befra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z.B. Steuerberater zur Ermittlung der Abschreibung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D0385E-E003-4B12-AD0E-3635D67D7C2D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9. November 2007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6196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996633"/>
                </a:solidFill>
                <a:latin typeface="Arial"/>
              </a:rPr>
              <a:t>Betriebswirtschaftliche Kalkulationen</a:t>
            </a:r>
            <a:br>
              <a:rPr sz="2100"/>
            </a:br>
            <a:r>
              <a:rPr b="1" lang="en-US" sz="2100" spc="-1" strike="noStrike">
                <a:solidFill>
                  <a:srgbClr val="996633"/>
                </a:solidFill>
                <a:latin typeface="Arial"/>
              </a:rPr>
              <a:t>- Die Ertragsplanung als Bestandteil des Business-Plans –</a:t>
            </a:r>
            <a:br>
              <a:rPr sz="2100"/>
            </a:br>
            <a:endParaRPr b="1" lang="en-US" sz="21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61960" y="18288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Beispiel für eine mittelfristige Ertragsvorscha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SIEHE FOLIE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-Jahres-Planung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64F70E-3263-439A-9A23-9873FEAA444B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9. November 2007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6196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996633"/>
                </a:solidFill>
                <a:latin typeface="Arial"/>
              </a:rPr>
              <a:t>Betriebswirtschaftliche Kalkulationen</a:t>
            </a:r>
            <a:br>
              <a:rPr sz="2100"/>
            </a:br>
            <a:r>
              <a:rPr b="1" lang="en-US" sz="2100" spc="-1" strike="noStrike">
                <a:solidFill>
                  <a:srgbClr val="996633"/>
                </a:solidFill>
                <a:latin typeface="Arial"/>
              </a:rPr>
              <a:t>- Die Liquiditätsplanung als Bestandteil des Business-Plans –</a:t>
            </a:r>
            <a:br>
              <a:rPr sz="2100"/>
            </a:br>
            <a:endParaRPr b="1" lang="en-US" sz="21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61960" y="18288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Grundsätzlich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996600"/>
              </a:buClr>
              <a:buSzPct val="8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s Basis dient die Ertragsplan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996600"/>
              </a:buClr>
              <a:buSzPct val="8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e Planung berücksichtig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cht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ahlungsströme (Einzahlungen und Auszahlungen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996600"/>
              </a:buClr>
              <a:buSzPct val="8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 Gegensatz zur Ertragsplanung, die typischerweise auf Basis von gebuchten Ein- und Ausgangsrechnungen erstellt wir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996600"/>
              </a:buClr>
              <a:buSzPct val="8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e stellt die prognostizierte Liquidität der Unternehmung im zeitlichen Ablauf d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996600"/>
              </a:buClr>
              <a:buSzPct val="8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e kann als Grundlage für die Ermittlung des Finanzbedarfs dienen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4442AE-AE22-481D-BDD7-60FC6FFF45E1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9. November 2007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6196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996633"/>
                </a:solidFill>
                <a:latin typeface="Arial"/>
              </a:rPr>
              <a:t>Betriebswirtschaftliche Kalkulationen</a:t>
            </a:r>
            <a:br>
              <a:rPr sz="2100"/>
            </a:br>
            <a:r>
              <a:rPr b="1" lang="en-US" sz="2100" spc="-1" strike="noStrike">
                <a:solidFill>
                  <a:srgbClr val="996633"/>
                </a:solidFill>
                <a:latin typeface="Arial"/>
              </a:rPr>
              <a:t>- Die Liquiditätsplanung als Bestandteil des Business-Plans –</a:t>
            </a:r>
            <a:br>
              <a:rPr sz="2100"/>
            </a:br>
            <a:endParaRPr b="1" lang="en-US" sz="21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61960" y="18288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rläuterung zu konkreten Inhalte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(SIEHE FOLIE 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96600"/>
              </a:buClr>
              <a:buSzPct val="8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 werden kalkulatorische Monatsanfangs- und -endkontostände ermittel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96600"/>
              </a:buClr>
              <a:buSzPct val="8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e Einnahmenplanung basiert auf Prämissen zur Debitorenlaufze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Wann zahlen die Kunden?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96600"/>
              </a:buClr>
              <a:buSzPct val="8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eiches gilt für die Ausgab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Wann müssen wir, was an wen zahlen?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96600"/>
              </a:buClr>
              <a:buSzPct val="8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e Darstellung berücksichtigt Inhalte, die bei der Ertragsplanung keine Berücksichtigung finden, insbesond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Umsatz- bzw. Vorsteuerzahlun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Investitionen und Tilgun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Forderungen und Verbindlichkei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CAEA83-3AAF-4751-9928-CBEAFBDA870E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9. November 2007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6196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996633"/>
                </a:solidFill>
                <a:latin typeface="Arial"/>
              </a:rPr>
              <a:t>Das Unternehmens-Controlling</a:t>
            </a:r>
            <a:endParaRPr b="1" lang="en-US" sz="25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61960" y="18288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n professionelles Controlling umfasst di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buClr>
                <a:srgbClr val="996600"/>
              </a:buClr>
              <a:buSzPct val="8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ung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buClr>
                <a:srgbClr val="996600"/>
              </a:buClr>
              <a:buSzPct val="8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ontrolle u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buClr>
                <a:srgbClr val="996600"/>
              </a:buClr>
              <a:buSzPct val="8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uer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r unternehmerischen Entwicklung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21F27B-7142-46EA-B518-1FC866E1D4A0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9. November 2007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6196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996633"/>
                </a:solidFill>
                <a:latin typeface="Arial"/>
              </a:rPr>
              <a:t>Das Unternehmens-Controlling</a:t>
            </a:r>
            <a:endParaRPr b="1" lang="en-US" sz="25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61960" y="18288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Inhalte eines Controlling-Informations-System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00"/>
              </a:buClr>
              <a:buSzPct val="8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tlaufende Planung und Kontrolle wesentlicher Kennzahlen (Plan/Ist-Vergleiche und Forecast-Planu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(SIEHE FOLIE 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00"/>
              </a:buClr>
              <a:buSzPct val="8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tlaufende Liquiditätsplan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00"/>
              </a:buClr>
              <a:buSzPct val="8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ennzahlenorientiertes Kurzbericht-R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(SIEHE FOLIE 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00"/>
              </a:buClr>
              <a:buSzPct val="8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jekt- bzw. Auftragsbezogene Vor- und Nachkalkulation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(SIEHE FOLIE 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7E8057-F7A8-4FA7-A280-114434722DBF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9. November 2007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6196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996633"/>
                </a:solidFill>
                <a:latin typeface="Arial"/>
              </a:rPr>
              <a:t>Das Unternehmens-Controlling</a:t>
            </a:r>
            <a:endParaRPr b="1" lang="en-US" sz="25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61960" y="18288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arüber hinaus wichti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00"/>
              </a:buClr>
              <a:buSzPct val="8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tzung/Implementierung betriebswirtschaftlicher Softwarelösungen, dabei releva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Definition des Kontenrahm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Einrichtung Leistungs- u. Kostenarten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Listenerstellung (Debitoren, Kreditoren, Artikel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00"/>
              </a:buClr>
              <a:buSzPct val="8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nsatz qualifizierter Mitarbeiter für Aufgabenbereiche Buchführung/operatives Control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840A93-6305-4286-9B5B-FD83A7559170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9. November 2007</a:t>
            </a: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6196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996633"/>
                </a:solidFill>
                <a:latin typeface="Arial"/>
              </a:rPr>
              <a:t>Das Bankgespräch</a:t>
            </a:r>
            <a:endParaRPr b="1" lang="en-US" sz="25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1960" y="18288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Die Grundsit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Histori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00"/>
              </a:buClr>
              <a:buSzPct val="8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hwierige wirtschaftliche Rahmenbedingu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00"/>
              </a:buClr>
              <a:buSzPct val="8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he Anzahl an Insolvenzen und Kreditausfäl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00"/>
              </a:buClr>
              <a:buSzPct val="8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el II / Unternehmensra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00"/>
              </a:buClr>
              <a:buSzPct val="8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ele aus der Not geborene Existenzgründu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ktuell (mit steigender Tendenz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00"/>
              </a:buClr>
              <a:buSzPct val="8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rtschaftliches Klima verbessert (leichter Aufschwu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00"/>
              </a:buClr>
              <a:buSzPct val="8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reinigungsprozesse“ vollzo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00"/>
              </a:buClr>
              <a:buSzPct val="8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ttbewerbsdruck unter Banken steigend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6028DD-CFC8-4FF4-BEC2-3E397A1365BD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9. November 2007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6196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996633"/>
                </a:solidFill>
                <a:latin typeface="Arial"/>
              </a:rPr>
              <a:t>Controlling und Reporting </a:t>
            </a:r>
            <a:br>
              <a:rPr sz="2500"/>
            </a:br>
            <a:r>
              <a:rPr b="1" lang="en-US" sz="2500" spc="-1" strike="noStrike">
                <a:solidFill>
                  <a:srgbClr val="996633"/>
                </a:solidFill>
                <a:latin typeface="Arial"/>
              </a:rPr>
              <a:t>- praxisorientierte Lösungsansätze -</a:t>
            </a:r>
            <a:endParaRPr b="1" lang="en-US" sz="25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1960" y="18288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nha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00"/>
              </a:buClr>
              <a:buSzPct val="8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Einleit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00"/>
              </a:buClr>
              <a:buSzPct val="8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Kurzvorstellung Unternehmensberatung Re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00"/>
              </a:buClr>
              <a:buSzPct val="8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Betriebswirtschaftliche Kalkulatio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rtrags-, u. Liquiditätsplanu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00"/>
              </a:buClr>
              <a:buSzPct val="8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Unternehmens-Control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00"/>
              </a:buClr>
              <a:buSzPct val="8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 Das Bankgesprä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00"/>
              </a:buClr>
              <a:buSzPct val="8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 Praxisbeispiel: Internes und externes Repor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C7BBBE-C8AF-4A89-B463-A2BE239AD269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9. November 2007</a:t>
            </a: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6196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996633"/>
                </a:solidFill>
                <a:latin typeface="Arial"/>
              </a:rPr>
              <a:t>Das Bankgespräch</a:t>
            </a:r>
            <a:endParaRPr b="1" lang="en-US" sz="25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61960" y="18288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Konsequenzen aus Sicht der Bank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ach wie vo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00"/>
              </a:buClr>
              <a:buSzPct val="8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ritisch/vorsichtige Grundhaltung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b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inanzierungsinteresse stark erhö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00"/>
              </a:buClr>
              <a:buSzPct val="8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tragschancen/Finanzielle Situation wird detailliert beurteil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00"/>
              </a:buClr>
              <a:buSzPct val="8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he Anforderungen an Business Plan, Reporting und  Control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00"/>
              </a:buClr>
              <a:buSzPct val="8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derung: externe Unterstützung / Unternehmensbera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7A2F04-15C2-4836-A301-6E95203F6DAE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9. November 2007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6196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996633"/>
                </a:solidFill>
                <a:latin typeface="Arial"/>
              </a:rPr>
              <a:t>Das Bankgespräch</a:t>
            </a:r>
            <a:endParaRPr b="1" lang="en-US" sz="25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61960" y="18288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Konsequenzen aus Sicht des (potentiellen) Unternehmer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00"/>
              </a:buClr>
              <a:buSzPct val="8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hr gut vorbereitet in die Gespräche ge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00"/>
              </a:buClr>
              <a:buSzPct val="8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terlagen vorab zur Verfügung stel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00"/>
              </a:buClr>
              <a:buSzPct val="8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bstsicheres und –kritisches Auftre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00"/>
              </a:buClr>
              <a:buSzPct val="8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siken aufzeigen, Lösungsansätze und Szenarien bild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00"/>
              </a:buClr>
              <a:buSzPct val="8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e Bank als Partner verste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00"/>
              </a:buClr>
              <a:buSzPct val="8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ternes, Vertrauen schaffendes Know-how nutzen, Ihre unternehmerische Zeit ist zu kostbar für Exceltabellen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00"/>
              </a:buClr>
              <a:buSzPct val="8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s Reporting/Controlling professionell aufsetz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9E8B56-B75F-4891-8FA3-1490A42A8AA1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9. November 2007</a:t>
            </a: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6196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996633"/>
                </a:solidFill>
                <a:latin typeface="Arial"/>
              </a:rPr>
              <a:t>Praxisbeispiel: Internes und externes Reporting</a:t>
            </a:r>
            <a:endParaRPr b="1" lang="en-US" sz="25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61960" y="18288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(SIEHE FOLIE 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244648-7E13-407F-A736-AD7B6D9C33A7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9. November 2007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6196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996633"/>
                </a:solidFill>
                <a:latin typeface="Arial"/>
              </a:rPr>
              <a:t>Unternehmensberatung Frank Reher</a:t>
            </a:r>
            <a:endParaRPr b="1" lang="en-US" sz="25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61960" y="18288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Mein Kurzporträ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00"/>
              </a:buClr>
              <a:buSzPct val="8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5 Jah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00"/>
              </a:buClr>
              <a:buSzPct val="8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eiberuflicher Unternehmensberater seit 199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00"/>
              </a:buClr>
              <a:buSzPct val="8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udium der Betriebswirtscha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00"/>
              </a:buClr>
              <a:buSzPct val="8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8 Jahre Beratungstätigke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00"/>
              </a:buClr>
              <a:buSzPct val="8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disziplinäre Fach- und Branchenkenntnis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EFAA22-6E20-4A19-B493-9C5FAEF64DB1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9. November 2007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6196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996633"/>
                </a:solidFill>
                <a:latin typeface="Arial"/>
              </a:rPr>
              <a:t>Unternehmensberatung Frank Reher</a:t>
            </a:r>
            <a:endParaRPr b="1" lang="en-US" sz="25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1960" y="18288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Beratungsinhal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00"/>
              </a:buClr>
              <a:buSzPct val="8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Unternehmens-Control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00"/>
              </a:buClr>
              <a:buSzPct val="8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triebswirtschaftliche Betreuung / Coach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00"/>
              </a:buClr>
              <a:buSzPct val="8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Krisen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00"/>
              </a:buClr>
              <a:buSzPct val="8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Unternehmensbewert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nd last not leas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00"/>
              </a:buClr>
              <a:buSzPct val="8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xistenzgründungsberat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(Business Pläne, Finanzierung, Bankgespräche, Begleitu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6600"/>
              </a:buClr>
              <a:buSzPct val="8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rogramme u.a. BG-Start!, EG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1F0E52-1285-4F0A-8534-514289B84E64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9. November 2007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6196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996633"/>
                </a:solidFill>
                <a:latin typeface="Arial"/>
              </a:rPr>
              <a:t>Unternehmensberatung Frank Reher</a:t>
            </a:r>
            <a:endParaRPr b="1" lang="en-US" sz="25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61960" y="18288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Die Kun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ttelständler und Kleinunternehmen aus unterschiedlichen Branchen, w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996600"/>
              </a:buClr>
              <a:buSzPct val="8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ß- und Einzelhan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996600"/>
              </a:buClr>
              <a:buSzPct val="8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/Neue Medi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996600"/>
              </a:buClr>
              <a:buSzPct val="8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dizintechnolog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996600"/>
              </a:buClr>
              <a:buSzPct val="8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sonaldienstleist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996600"/>
              </a:buClr>
              <a:buSzPct val="8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genieurbü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996600"/>
              </a:buClr>
              <a:buSzPct val="8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ustr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996600"/>
              </a:buClr>
              <a:buSzPct val="8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ndwe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996600"/>
              </a:buClr>
              <a:buSzPct val="8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nstige Dienstlei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4F5956-8DF9-4857-A353-F3F24DB5FC24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9. November 2007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6196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996633"/>
                </a:solidFill>
                <a:latin typeface="Arial"/>
              </a:rPr>
              <a:t>Unternehmensberatung Frank Reher</a:t>
            </a:r>
            <a:endParaRPr b="1" lang="en-US" sz="25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1960" y="18288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Die Part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00"/>
              </a:buClr>
              <a:buSzPct val="8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TG- und Bürgschaftsgemeinschaft Hambu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00"/>
              </a:buClr>
              <a:buSzPct val="8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.E.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00"/>
              </a:buClr>
              <a:buSzPct val="8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QP 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00"/>
              </a:buClr>
              <a:buSzPct val="8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KW No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00"/>
              </a:buClr>
              <a:buSzPct val="8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ürgschaftsbank Schleswig-Holste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00"/>
              </a:buClr>
              <a:buSzPct val="8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ndelskammer Hambu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00"/>
              </a:buClr>
              <a:buSzPct val="8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verse Bank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00"/>
              </a:buClr>
              <a:buSzPct val="8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ternehmens- und Steuerbera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6EA97B-DC5B-4F47-BDE2-DF23B87E153C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9. November 2007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6196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996633"/>
                </a:solidFill>
                <a:latin typeface="Arial"/>
              </a:rPr>
              <a:t>Betriebswirtschaftliche Kalkulationen</a:t>
            </a:r>
            <a:br>
              <a:rPr sz="2100"/>
            </a:br>
            <a:r>
              <a:rPr b="1" lang="en-US" sz="2100" spc="-1" strike="noStrike">
                <a:solidFill>
                  <a:srgbClr val="996633"/>
                </a:solidFill>
                <a:latin typeface="Arial"/>
              </a:rPr>
              <a:t>- Die Ertragsplanung als Bestandteil des Business-Plans –</a:t>
            </a:r>
            <a:br>
              <a:rPr sz="2100"/>
            </a:br>
            <a:endParaRPr b="1" lang="en-US" sz="21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61960" y="18288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e Umsatz- und Kostenbegründung soll die Ertragsvorschau erläutern/hinterlegen, z.B. durch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00"/>
              </a:buClr>
              <a:buSzPct val="8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anchenkennzah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z.B. Umsatz-/Rohertrags-/Personalkostenquot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00"/>
              </a:buClr>
              <a:buSzPct val="8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rstellung des Geschäftsjahres (Haupt-/Nebensais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00"/>
              </a:buClr>
              <a:buSzPct val="8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e Möglichkeit hinterlegte monatliche Kostenkalkulationen zu zei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00"/>
              </a:buClr>
              <a:buSzPct val="8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rstellung der Auslastung 1./2. Jah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00"/>
              </a:buClr>
              <a:buSzPct val="8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zug zur „Geschäftsidee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z.B. über Öffnungszeiten, Sitzplätze, Standort etc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2AEB25-211F-48AF-ADDA-5195AF2FFA3B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9. November 2007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6196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996633"/>
                </a:solidFill>
                <a:latin typeface="Arial"/>
              </a:rPr>
              <a:t>Betriebswirtschaftliche Kalkulationen</a:t>
            </a:r>
            <a:br>
              <a:rPr sz="2100"/>
            </a:br>
            <a:r>
              <a:rPr b="1" lang="en-US" sz="2100" spc="-1" strike="noStrike">
                <a:solidFill>
                  <a:srgbClr val="996633"/>
                </a:solidFill>
                <a:latin typeface="Arial"/>
              </a:rPr>
              <a:t>- Die Ertragsplanung als Bestandteil des Business-Plans –</a:t>
            </a:r>
            <a:br>
              <a:rPr sz="2100"/>
            </a:br>
            <a:endParaRPr b="1" lang="en-US" sz="21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1960" y="18288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 u="sng">
                <a:solidFill>
                  <a:srgbClr val="000000"/>
                </a:solidFill>
                <a:uFillTx/>
                <a:latin typeface="Arial"/>
              </a:rPr>
              <a:t>Grundsätzli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96600"/>
              </a:buClr>
              <a:buSzPct val="8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öglichst realitätsnah planen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96600"/>
              </a:buClr>
              <a:buSzPct val="8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rmittlung der Ertragschancen der Unternehm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96600"/>
              </a:buClr>
              <a:buSzPct val="8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Zeitliche Entwicklung auf Monatsbasis darstell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96600"/>
              </a:buClr>
              <a:buSzPct val="8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Wichtige Meilensteine darstellen (z.B. Break-Eve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96600"/>
              </a:buClr>
              <a:buSzPct val="8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Zahlen und Erläuterungen spiegeln Business-Plan-Gesamtkonzept wie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96600"/>
              </a:buClr>
              <a:buSzPct val="8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erständliche Graphiken und Tabellen verwend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96600"/>
              </a:buClr>
              <a:buSzPct val="8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urchführung von Marktanalys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96600"/>
              </a:buClr>
              <a:buSzPct val="8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inholung von Experten Know-h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96600"/>
              </a:buClr>
              <a:buSzPct val="8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ventuell: Alternative Szenarien entwickel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F0167D-F603-4FFA-8673-7651D812D2C6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9. November 2007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6196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996633"/>
                </a:solidFill>
                <a:latin typeface="Arial"/>
              </a:rPr>
              <a:t>Betriebswirtschaftliche Kalkulationen</a:t>
            </a:r>
            <a:br>
              <a:rPr sz="2100"/>
            </a:br>
            <a:r>
              <a:rPr b="1" lang="en-US" sz="2100" spc="-1" strike="noStrike">
                <a:solidFill>
                  <a:srgbClr val="996633"/>
                </a:solidFill>
                <a:latin typeface="Arial"/>
              </a:rPr>
              <a:t>- Die Ertragsplanung als Bestandteil des Business-Plans –</a:t>
            </a:r>
            <a:br>
              <a:rPr sz="2100"/>
            </a:br>
            <a:endParaRPr b="1" lang="en-US" sz="21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1960" y="18288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Beispiel für eine monatliche Ertragsplan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SIEHE FOLI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tragsplanung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0D8586-81A6-44B2-BACA-AADE7F7E585F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9. November 2007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1T06:46:25Z</dcterms:created>
  <dc:creator>Bürgschaftsgemeinschaft Hamburg</dc:creator>
  <dc:description/>
  <dc:language>en-US</dc:language>
  <cp:lastModifiedBy> </cp:lastModifiedBy>
  <dcterms:modified xsi:type="dcterms:W3CDTF">2007-11-13T17:07:31Z</dcterms:modified>
  <cp:revision>36</cp:revision>
  <dc:subject/>
  <dc:title>PowerPoint-Präsentation</dc:title>
</cp:coreProperties>
</file>